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75D-1564-4DD5-B807-D341C45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C1D-2961-4681-8C6D-EFFFB0EF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EB6-E156-4C40-BBA4-4F401E2B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948-8BC8-4800-BEAC-60AEBAC2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EC0-E126-49E9-9186-7AB37B42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1976-0CC3-4F83-A022-C386EA56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921-7FE7-4ECE-93A2-3C30F2D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63C7-8E88-43E0-82A1-1BA18D3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ECC-94B0-4DED-A788-E346F68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FC01-E7BB-4513-B784-229C11B9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3B7-40A3-4EE4-96CB-C6B94FD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032-8349-4E38-89F2-5F3FDA2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463-A34D-4501-AB6E-F4221CB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5B6-4B5C-4C3D-B8C0-2B3C53F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7E7-7EA4-4889-88AB-0A3BC827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2A6-A111-4B33-952D-1A6A3E40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7D4D-77D5-43FC-A617-17510A79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62894-BA8F-46B9-838E-CEBFCEDB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7878E-4741-4C81-B0BC-0851241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9648C-F309-48D8-B6E5-7093744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5D5B8-1DE3-4A44-B1DC-00D0E68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5C578-3137-41E0-B9D9-2D8CE30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5E9-A3C8-4D96-B8E0-27AD9CF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3D8F8-2E5C-4265-BB7C-2544783A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97728-EFEE-4FE1-9A21-B2704EA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BC765-163B-4822-B4B4-8FE30E4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E5117-D607-4449-93C1-00CAC62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1B408-279D-4613-9C44-7A11CFF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2E97E-BD4D-466D-B6D5-B8FF5576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9F8A9-D474-40DF-8F97-4263A691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0E5C-961C-49A9-8567-0F52E34B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3C82-248B-4F7A-B488-3A22A83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6323-B5BB-447E-8AF0-5DBCCE4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51A-5148-49A0-B308-553857A6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0CBE-7378-48AD-B218-0EF37643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1907-B144-4414-948A-DFEFFE89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D7B1-27FC-4324-9B7E-AB10C01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61A0-F5EA-4CCB-A453-A7D9531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0981-6116-4B51-AFD3-2191641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5C4D-047E-47CE-986E-43B3724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C1A9-FB1C-48E6-9A2B-3999F77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CC3E-BBDD-4F9D-BCF4-8504CB14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DA31-2B7E-44DE-91EC-32DDFE42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5D4-4197-49B7-A91A-5D00D3A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E02-66FE-413C-919F-A8E43FEF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F51-7CAA-40A6-AF7C-622AE9B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355-EAE9-4923-996B-464FF1D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BD6-3439-4AF4-B2A7-8FD8422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04D6-B6B2-4A1C-ADE8-3BD977713FD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69A-0FE2-4CBB-83DB-19E911D08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5A3-2DD5-4C2C-9FC3-6F57BAA127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053-7E2F-4254-B8A0-662F85F846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AFETY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AIRBAGS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STRUCTION OF AIR BAG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are assemblies consisting of the airbag (made of Nylon), inflator modules and sensor housing, electrical connectors (Clock spring), airbag retainer and the cov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or assem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module activates airbag assembly- electric current is sent to the detonator-ignition of sodium azide pallets-evolves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bags are designed to inflate in frontal impacts in which the car strikes about 16 km/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collision senors sents an electric current to ignito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 current heats the filament which ignates the capsule which in turn ignites the gas generating pal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s expands quickly and inflation of air bags there by takesplace,which break through a plastic cover in the  steering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aken for all these things about .1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IVERS SIDE AIRBA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Picture 4" descr="airbag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59092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717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8" name="Picture 2" descr="airbag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1981080"/>
            <a:ext cx="4200480" cy="26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0002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Picture 4" descr="airbag7"/>
          <p:cNvPicPr/>
          <p:nvPr/>
        </p:nvPicPr>
        <p:blipFill>
          <a:blip r:embed="rId2">
            <a:grayscl/>
          </a:blip>
          <a:stretch/>
        </p:blipFill>
        <p:spPr>
          <a:xfrm>
            <a:off x="5638680" y="19810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6" descr=""/>
          <p:cNvPicPr/>
          <p:nvPr/>
        </p:nvPicPr>
        <p:blipFill>
          <a:blip r:embed="rId3"/>
          <a:stretch/>
        </p:blipFill>
        <p:spPr>
          <a:xfrm>
            <a:off x="5857920" y="4559400"/>
            <a:ext cx="246852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7" descr=""/>
          <p:cNvPicPr/>
          <p:nvPr/>
        </p:nvPicPr>
        <p:blipFill>
          <a:blip r:embed="rId4"/>
          <a:stretch/>
        </p:blipFill>
        <p:spPr>
          <a:xfrm>
            <a:off x="1968480" y="4559400"/>
            <a:ext cx="2206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types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urtain airba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mercedes and vol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e infront of windows to provide passengers better head and neck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efficient at tipping and side imp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HIC by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ad throax bag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ford and renaul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 protection to he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BMW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lds first airbag for hea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mart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weight sens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ccupant in seat.ie.child or ad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Infrared occupa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the distance of passenger from airb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apacitive reflective occupa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ens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distance passenger from dash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e between human occupant and inanima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pdate sens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s seatbelt pretensioners faster to get benefit of airb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entralised electronic control uni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ensor technology through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  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2   BASIS OF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3   DEVELOPMENTS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4   CONSTRUCTION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5   WORK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6   MODER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7   FUT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8   AIR BAG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9   AIR BAG CHE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0 DISARMING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1 CON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 bag de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icits contact with airb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to rest in seat and deflation of airba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se take in 30 milli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bags che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turn key look at the dash to find airbag light for 7-10 sec.&amp;then go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occur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light does not come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if light does not go off after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if light comes during dr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rming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batt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 30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airbag f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sound insulat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the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the bag is disa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he bag below 130degree cels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airbag"/>
          <p:cNvPicPr/>
          <p:nvPr/>
        </p:nvPicPr>
        <p:blipFill>
          <a:blip r:embed="rId1"/>
          <a:stretch/>
        </p:blipFill>
        <p:spPr>
          <a:xfrm>
            <a:off x="175248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irbag1"/>
          <p:cNvPicPr/>
          <p:nvPr/>
        </p:nvPicPr>
        <p:blipFill>
          <a:blip r:embed="rId2"/>
          <a:stretch/>
        </p:blipFill>
        <p:spPr>
          <a:xfrm>
            <a:off x="419112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irbag2"/>
          <p:cNvPicPr/>
          <p:nvPr/>
        </p:nvPicPr>
        <p:blipFill>
          <a:blip r:embed="rId3"/>
          <a:stretch/>
        </p:blipFill>
        <p:spPr>
          <a:xfrm>
            <a:off x="6553080" y="25146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airbag3"/>
          <p:cNvPicPr/>
          <p:nvPr/>
        </p:nvPicPr>
        <p:blipFill>
          <a:blip r:embed="rId4"/>
          <a:stretch/>
        </p:blipFill>
        <p:spPr>
          <a:xfrm>
            <a:off x="167652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irbag4"/>
          <p:cNvPicPr/>
          <p:nvPr/>
        </p:nvPicPr>
        <p:blipFill>
          <a:blip r:embed="rId5"/>
          <a:stretch/>
        </p:blipFill>
        <p:spPr>
          <a:xfrm>
            <a:off x="4191120" y="44197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rear_restraint"/>
          <p:cNvPicPr/>
          <p:nvPr/>
        </p:nvPicPr>
        <p:blipFill>
          <a:blip r:embed="rId1"/>
          <a:stretch/>
        </p:blipFill>
        <p:spPr>
          <a:xfrm>
            <a:off x="990720" y="3429000"/>
            <a:ext cx="7543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bags are of greater importance in todays vehicles siince safety of human life is of prio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ar safe riding  and for saving  the precious life the safety bags must be implemen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hope every automobile manufacturer implements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-1322280" y="2498760"/>
            <a:ext cx="1148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recently seat belts provided the sole form of passive restraint in c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ly talks arose about their saf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have been under development for many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s reveal that airbags reduce the risk of casualty in a DFC by 3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are the subject of serious governments industry research and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’s second law of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objects aren’t restrained they will continue moving at the speed of the moving car even if the car is stopped by a coll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irbags need to do is to slow down passengers spe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WordArt 5" descr=""/>
          <p:cNvPicPr/>
          <p:nvPr/>
        </p:nvPicPr>
        <p:blipFill>
          <a:blip r:embed="rId1"/>
          <a:stretch/>
        </p:blipFill>
        <p:spPr>
          <a:xfrm>
            <a:off x="444600" y="596880"/>
            <a:ext cx="7291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-2 :saw the first patent on an inflatable crash landing device for airpla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:first commercial airbags appeared in automob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 since 1988 it became a bi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s to adapt the airbag was stranded due to prohibitive prices and technical hur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ARTS OF AN AIRB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l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de up of a thin nylon fabric, which is folded into the steering wheel or dashboard or the seat or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owdery substance released ( regular cornstarch or talcum powder) is used to keep the bags lubricated while they’re in sto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EN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9296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that tells the bag to infl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rks with the control module to                      discriminate between crash and non- crash events.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FLATION SYSTEM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large amts. of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Blasts of the nitrogen inflate the air bag from its storage site up to 322Km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32:07Z</dcterms:created>
  <dc:creator>Mechanical Engineering Project</dc:creator>
  <dc:description/>
  <dc:language>en-US</dc:language>
  <cp:lastModifiedBy>Brigade</cp:lastModifiedBy>
  <dcterms:modified xsi:type="dcterms:W3CDTF">2011-08-09T11:09:22Z</dcterms:modified>
  <cp:revision>0</cp:revision>
  <dc:subject/>
  <dc:title>Mechanical Engineering Project</dc:title>
</cp:coreProperties>
</file>